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958-EC55-4130-AF36-80A6D855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ABE-95B9-4422-B9DE-50D40B1A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5FB-E85D-4C00-A203-ECDE59FC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D5B-ED77-4F25-9F1C-A7838F86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DF5-4E76-4C7E-AC99-13D547AB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B9F-F170-4CC4-BA00-DF62A159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AA3-5CE9-40C9-9687-D1E719A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9D7-CE24-4E20-82DF-13AF1AFF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5BA-A7B7-4C20-8935-5AF5611F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CA8-5959-4E09-BD43-A77B5087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14A-EF02-455C-A902-2351AA4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B38-6A43-44AE-B092-8BB3EC9D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49AF-0D24-4150-9579-A5DB26643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8 Pred tvojou láskou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vojou lásk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skláň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s vďačnou úctou, pokor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rúcnu chvál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vz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kríž je mojou opo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tvoja milosť neskonal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ečný život darov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Pane,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 láske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n bremä snímaš, dávaš m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ádej vlievaš, tešíš v ži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e si za nás m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chcem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s hriechom bor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tvojej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sa vnor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túžiš, aby všetci ľud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spásy v tebe prij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í, čo vo tme hriechu blúd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e pomoc hľada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pomô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a verným stan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dkom o tvojej láske, Pan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5:17Z</dcterms:modified>
  <cp:revision>29</cp:revision>
  <dc:subject/>
  <dc:title>Je veľký náš Pán, on slávy je Kráľ Nech do všetkých strán  spev vrúcnych znie chvál.</dc:title>
</cp:coreProperties>
</file>